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6C2-A56B-419A-B228-F93CB1D1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151-CBD0-4755-84C2-F0BD5793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740-EAF2-48AD-933F-CF5DB1DE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C23-F3F8-4B86-8D9E-648D8D96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900-E2BB-43F9-863E-0AE9554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ED0-5487-452D-969E-24E6F03D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A69-73CA-4C41-84A2-65EDC362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9B5-1E24-46AA-A05D-FD12AE2E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D14-611C-4521-B094-4556BF7E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96D-DA72-4BAD-9231-E456B317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C4A-541A-46F5-A084-94C5FE65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354-A93B-459E-8460-C19DDFF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FD4B-9BD6-4EE6-929D-9C13D66FB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2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What is 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705720" y="3429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Oa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0" descr="C:\Documents and Settings\ISLPT179\Local Settings\Temporary Internet Files\Content.IE5\5USIGLW0\MP900148892[1].jpg"/>
          <p:cNvPicPr/>
          <p:nvPr/>
        </p:nvPicPr>
        <p:blipFill>
          <a:blip r:embed="rId1"/>
          <a:stretch/>
        </p:blipFill>
        <p:spPr>
          <a:xfrm>
            <a:off x="2133720" y="1981080"/>
            <a:ext cx="327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 A series of connected mounta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705720" y="350532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Times New Roman"/>
              </a:rPr>
              <a:t>Mountain 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Documents and Settings\ISLPT179\Local Settings\Temporary Internet Files\Content.IE5\OXXLXK57\MP900447541[1].jpg"/>
          <p:cNvPicPr/>
          <p:nvPr/>
        </p:nvPicPr>
        <p:blipFill>
          <a:blip r:embed="rId1"/>
          <a:stretch/>
        </p:blipFill>
        <p:spPr>
          <a:xfrm>
            <a:off x="685800" y="2590920"/>
            <a:ext cx="59436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2"/>
          <p:cNvSpPr/>
          <p:nvPr/>
        </p:nvSpPr>
        <p:spPr>
          <a:xfrm>
            <a:off x="762120" y="22860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is  Differentiae  of  a mountain and a volcano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838080" y="259092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ne can eruded and one can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is the diffident of a lake and a gulf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838080" y="259092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lake is completely shrouded  by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99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Times New Roman"/>
              </a:rPr>
              <a:t>What is the same about a bay and a gu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Times New Roman"/>
              </a:rPr>
              <a:t>They both go out to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C:\Documents and Settings\ISLPT179\Local Settings\Temporary Internet Files\Content.IE5\65T806GC\MP900443549[1].jpg"/>
          <p:cNvPicPr/>
          <p:nvPr/>
        </p:nvPicPr>
        <p:blipFill>
          <a:blip r:embed="rId1"/>
          <a:stretch/>
        </p:blipFill>
        <p:spPr>
          <a:xfrm>
            <a:off x="0" y="3581280"/>
            <a:ext cx="3886200" cy="2586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Documents and Settings\ISLPT179\Local Settings\Temporary Internet Files\Content.IE5\65T806GC\MP900443552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4191120" cy="27892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20"/>
          <p:cNvCxnSpPr/>
          <p:nvPr/>
        </p:nvCxnSpPr>
        <p:spPr>
          <a:xfrm flipH="1">
            <a:off x="761400" y="5105520"/>
            <a:ext cx="1905480" cy="3816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89" name="Straight Arrow Connector 22"/>
          <p:cNvCxnSpPr/>
          <p:nvPr/>
        </p:nvCxnSpPr>
        <p:spPr>
          <a:xfrm>
            <a:off x="6553080" y="4952520"/>
            <a:ext cx="1905840" cy="762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6294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Documents and Settings\ISLPT179\Local Settings\Temporary Internet Files\Content.IE5\OXXLXK57\MP900313889[1].jpg"/>
          <p:cNvPicPr/>
          <p:nvPr/>
        </p:nvPicPr>
        <p:blipFill>
          <a:blip r:embed="rId1"/>
          <a:stretch/>
        </p:blipFill>
        <p:spPr>
          <a:xfrm>
            <a:off x="2362320" y="28954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oint of land that extents in to a bod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629400" y="3429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Documents and Settings\ISLPT179\Local Settings\Temporary Internet Files\Content.IE5\5USIGLW0\MP900181912[1].jpg"/>
          <p:cNvPicPr/>
          <p:nvPr/>
        </p:nvPicPr>
        <p:blipFill>
          <a:blip r:embed="rId1"/>
          <a:stretch/>
        </p:blipFill>
        <p:spPr>
          <a:xfrm>
            <a:off x="3416400" y="2438280"/>
            <a:ext cx="2311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lace where a river be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570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:\Documents and Settings\ISLPT179\Local Settings\Temporary Internet Files\Content.IE5\5USIGLW0\MP900447690[1].jpg"/>
          <p:cNvPicPr/>
          <p:nvPr/>
        </p:nvPicPr>
        <p:blipFill>
          <a:blip r:embed="rId1"/>
          <a:stretch/>
        </p:blipFill>
        <p:spPr>
          <a:xfrm>
            <a:off x="2514600" y="3276720"/>
            <a:ext cx="31622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Documents and Settings\ISLPT179\Local Settings\Temporary Internet Files\Content.IE5\5USIGLW0\MP900443758[1].jpg"/>
          <p:cNvPicPr/>
          <p:nvPr/>
        </p:nvPicPr>
        <p:blipFill>
          <a:blip r:embed="rId1"/>
          <a:stretch/>
        </p:blipFill>
        <p:spPr>
          <a:xfrm>
            <a:off x="3274920" y="2570040"/>
            <a:ext cx="2594160" cy="171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Documents and Settings\ISLPT179\Local Settings\Temporary Internet Files\Content.IE5\5USIGLW0\MP900443758[1].jpg"/>
          <p:cNvPicPr/>
          <p:nvPr/>
        </p:nvPicPr>
        <p:blipFill>
          <a:blip r:embed="rId2"/>
          <a:stretch/>
        </p:blipFill>
        <p:spPr>
          <a:xfrm>
            <a:off x="3274920" y="2570040"/>
            <a:ext cx="259416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9343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:\Documents and Settings\ISLPT179\Local Settings\Temporary Internet Files\Content.IE5\OXXLXK57\MP900313888[1].jpg"/>
          <p:cNvPicPr/>
          <p:nvPr/>
        </p:nvPicPr>
        <p:blipFill>
          <a:blip r:embed="rId1"/>
          <a:stretch/>
        </p:blipFill>
        <p:spPr>
          <a:xfrm>
            <a:off x="304920" y="2286000"/>
            <a:ext cx="64767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C:\Documents and Settings\ISLPT179\Local Settings\Temporary Internet Files\Content.IE5\UNOMQ7S5\MP900432748[1].jpg"/>
          <p:cNvPicPr/>
          <p:nvPr/>
        </p:nvPicPr>
        <p:blipFill>
          <a:blip r:embed="rId1"/>
          <a:stretch/>
        </p:blipFill>
        <p:spPr>
          <a:xfrm>
            <a:off x="304920" y="2895480"/>
            <a:ext cx="57909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A huge sheet of ice that moves slowly across the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Glac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Documents and Settings\ISLPT179\Local Settings\Temporary Internet Files\Content.IE5\UNOMQ7S5\MP900414057[1].jpg"/>
          <p:cNvPicPr/>
          <p:nvPr/>
        </p:nvPicPr>
        <p:blipFill>
          <a:blip r:embed="rId1"/>
          <a:stretch/>
        </p:blipFill>
        <p:spPr>
          <a:xfrm>
            <a:off x="990720" y="2438280"/>
            <a:ext cx="51051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What is a very dry area where few plants grow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De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C:\Documents and Settings\ISLPT179\Local Settings\Temporary Internet Files\Content.IE5\65T806GC\MP900447753[1].jpg"/>
          <p:cNvPicPr/>
          <p:nvPr/>
        </p:nvPicPr>
        <p:blipFill>
          <a:blip r:embed="rId1"/>
          <a:stretch/>
        </p:blipFill>
        <p:spPr>
          <a:xfrm>
            <a:off x="1066680" y="3276720"/>
            <a:ext cx="47498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30T15:46:51Z</dcterms:modified>
  <cp:revision>43</cp:revision>
  <dc:subject/>
  <dc:title>PowerPoint Presentation</dc:title>
</cp:coreProperties>
</file>